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bmsfx3.wav" ContentType="audio/x-wav"/>
  <Override PartName="/ppt/media/bmwon.wav" ContentType="audio/x-wav"/>
  <Override PartName="/ppt/media/bmfinal.wav" ContentType="audio/x-wav"/>
  <Override PartName="/ppt/media/image1.wmf" ContentType="image/x-wmf"/>
  <Override PartName="/ppt/media/wbmsfx5.wav" ContentType="audio/x-wav"/>
  <Override PartName="/ppt/media/image2.wmf" ContentType="image/x-wmf"/>
  <Override PartName="/ppt/media/wbmsfx7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1D5-2BB9-4442-B9CC-A5477A90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877-C61A-40A4-8077-F08118F8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9A8-2B25-4A9E-9CC3-5465B38F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4E7-4181-4B18-A78A-92900C99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5D9-7816-4101-A88F-D432EDB2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A1D-ABB1-49FB-AAAC-5F57612F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D24-6B39-410A-9387-6E74F17F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C28-B761-464F-8326-12D0D795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06A-940C-4BD3-A823-B1C47C11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3CD2-E57D-4266-9B3D-2420607F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5BF-2390-45C4-94AE-3354CB43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55C-0338-4664-8F30-B29109CB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0AF6-F1C0-49F7-8D99-7C8929861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bmsfx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" Target="slide35.xml"/><Relationship Id="rId4" Type="http://schemas.openxmlformats.org/officeDocument/2006/relationships/slide" Target="slide33.xml"/><Relationship Id="rId5" Type="http://schemas.openxmlformats.org/officeDocument/2006/relationships/slide" Target="slide31.xml"/><Relationship Id="rId6" Type="http://schemas.openxmlformats.org/officeDocument/2006/relationships/slide" Target="slide29.xml"/><Relationship Id="rId7" Type="http://schemas.openxmlformats.org/officeDocument/2006/relationships/slide" Target="slide27.xml"/><Relationship Id="rId8" Type="http://schemas.openxmlformats.org/officeDocument/2006/relationships/slide" Target="slide25.xml"/><Relationship Id="rId9" Type="http://schemas.openxmlformats.org/officeDocument/2006/relationships/slide" Target="slide23.xml"/><Relationship Id="rId10" Type="http://schemas.openxmlformats.org/officeDocument/2006/relationships/slide" Target="slide21.xml"/><Relationship Id="rId11" Type="http://schemas.openxmlformats.org/officeDocument/2006/relationships/slide" Target="slide19.xml"/><Relationship Id="rId12" Type="http://schemas.openxmlformats.org/officeDocument/2006/relationships/slide" Target="slide17.xml"/><Relationship Id="rId13" Type="http://schemas.openxmlformats.org/officeDocument/2006/relationships/slide" Target="slide15.xml"/><Relationship Id="rId14" Type="http://schemas.openxmlformats.org/officeDocument/2006/relationships/slide" Target="slide13.xml"/><Relationship Id="rId15" Type="http://schemas.openxmlformats.org/officeDocument/2006/relationships/slide" Target="slide11.xml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32.xml"/><Relationship Id="rId6" Type="http://schemas.openxmlformats.org/officeDocument/2006/relationships/slide" Target="slide5.xml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4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6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bmsfx5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mwon.wav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bmfinal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788800">
            <a:off x="2057040" y="533520"/>
            <a:ext cx="5776920" cy="17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Let's Pla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3200400"/>
            <a:ext cx="66294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ho Wants To B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Millionaire Student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2860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Grade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answer to a division 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X 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X 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+ 45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+ 45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180 in expanded for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+ 8 +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+ 8 +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 + 8 +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 + 80 +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180 in expanded for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+ 8 +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 + 80 +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6/12 in lowest ter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6/12 in lowest ter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perimeter of a square with a length of 5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21932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89548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80060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228600"/>
            <a:ext cx="3200400" cy="640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0" cy="533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4038480"/>
            <a:ext cx="0" cy="762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17524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350532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54100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523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47920" y="3048120"/>
            <a:ext cx="925560" cy="900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47920" y="4867200"/>
            <a:ext cx="990360" cy="973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00600" y="0"/>
            <a:ext cx="3429000" cy="695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$ 1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$ 5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$ 25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$ 1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$ 6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$ 3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$ 1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$  8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$  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$  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$  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$   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$  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$  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52280"/>
            <a:ext cx="3048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illionaire Stu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perimeter of a square with a length of 5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we call a shape with two sets of  paralle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four right ang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ho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we call a shape with two sets of  paralle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four right ang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inches are there in 2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inches are there in 2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we call the distance around a circ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m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we call the distance around a circ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m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0 x 1000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0 x 1000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this fraction to a decima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1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696080" cy="3200400"/>
          </a:xfrm>
          <a:prstGeom prst="roundRect">
            <a:avLst>
              <a:gd name="adj" fmla="val 1716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495680"/>
            <a:ext cx="3200400" cy="16765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838080"/>
            <a:ext cx="7238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rry, that is not corr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 you for play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4952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s ES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this fraction to a decima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t these fractions in order from least to great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4, 1/2, 1/3, 1/8, 1/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, 1/3, 1/4, 1/5, 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5, 1/2, 1/3, 1/4, 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8, 1/5, 1/4, 1/3,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8, 1/3, 1/5, 1/4,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t these fractions in order from least to great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4, 1/2, 1/3, 1/8, 1/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, 1/3, 1/4, 1/5, 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8, 1/5, 1/4, 1/3,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=9 and b=3 and c=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x b + c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=9 and b=3 and c=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x b + c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I leave my house at 10:15 am on Thursday, go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me home at 4:56 the sam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uch time has pa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hours 56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hours 41 min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hours 19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hours 21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I leave my house at 10:15 am on Thursday, go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me home at 4:56 the sam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uch time has pa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hours 41 min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hours 21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457200"/>
            <a:ext cx="845820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609480"/>
            <a:ext cx="7848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ll on any ad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 stud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r deci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419720"/>
            <a:ext cx="419112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648320"/>
            <a:ext cx="3962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Cl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iously Vie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304920"/>
            <a:ext cx="853416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143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k The Audien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267080"/>
            <a:ext cx="3886200" cy="1828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Cl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iously Vie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28600"/>
            <a:ext cx="8229600" cy="5181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609480"/>
            <a:ext cx="76197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now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LLIONA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5638680"/>
            <a:ext cx="3200400" cy="121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594360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60199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s E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mw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447920"/>
            <a:ext cx="8534520" cy="2168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t’s righ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o to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NEXT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ques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153640" cy="312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s that y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nal Answ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5181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4114800"/>
            <a:ext cx="4191120" cy="236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19112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Cli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iously View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Answ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bmfinal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answer to a division 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5T00:54:10Z</dcterms:created>
  <dc:creator>Cindy Robertson</dc:creator>
  <dc:description/>
  <dc:language>en-US</dc:language>
  <cp:lastModifiedBy>sibel</cp:lastModifiedBy>
  <dcterms:modified xsi:type="dcterms:W3CDTF">2010-03-15T08:29:42Z</dcterms:modified>
  <cp:revision>159</cp:revision>
  <dc:subject/>
  <dc:title>PowerPoint Presentation</dc:title>
</cp:coreProperties>
</file>